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16"/>
          </p:nvPr>
        </p:nvSpPr>
        <p:spPr>
          <a:xfrm>
            <a:off x="385128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7"/>
          </p:nvPr>
        </p:nvSpPr>
        <p:spPr>
          <a:xfrm>
            <a:off x="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8"/>
          </p:nvPr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E9811-B380-4F79-A4E5-9063788423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92FCF-4F6A-4EA1-A4CB-F4C82FC9E5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FE54F-D925-4C1C-B187-40F9992C97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F3E434-9B83-417F-9093-0277A3B14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3128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D520B-F1F7-48E9-87C1-73CA1EB3B6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5DDD-2A87-424F-99D2-B263B99B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4313-7BBB-4C8F-8DF0-13204EF7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E6E8-1A0A-4300-8074-098211B3C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DA9-246C-420B-A492-B9857655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C884-8FE9-4988-8812-D17B1E90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154F-C6B9-4B08-988F-990AED47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BEAF-E3D0-4F9C-91E4-50142B1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DE9-0FA1-4AC9-B17D-6B21CF0D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75B4-F0CE-44CE-AF5E-B2083720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E571-9F33-4FC8-88E0-A808FC14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4988-C5EF-49ED-B585-416D0B01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A8F-47E2-4DCB-8694-AB231C62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B4A1-90B2-4559-AF76-7668EE32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ADDD-CC42-43CE-A177-2D04815B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A82E-589A-44B3-BA1A-BD5567EB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B5C4-C114-4FD9-B4A5-B6A42C7D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EFEF-BC8F-4FD6-98CD-BE5EC7CC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72794-FA44-47F1-9DF9-84047A67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962E-E56E-47F2-92E0-1D41A8B5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28E5-E902-4D50-9554-0E04E829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11F1-A7BC-45BE-B801-2CB3657A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07CAD-9F6A-49DD-BDAD-EAD04020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1FB5-A70C-4F7E-BE08-7812043C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59775-BE16-49BB-BD0E-8395CB9B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FEA9F-A95C-4ED2-81A5-40493558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1F4D-2FEB-4947-B08F-C7A4DF58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BEC5-6334-4C5A-AD0B-1B45384C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0DFF-CE47-4C2D-A406-BD7495CC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8DA47-D1AB-47EC-A726-4CD559FA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DA45-94DF-41C5-86DE-314375FB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3D13-CD97-47D0-BBF2-FEAEE522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CA1E3-141D-4472-8E11-E200D054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CBF06-8B50-41F7-BFFE-F213194B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4E6C-A5E9-4319-A186-41BE95D3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8F860-6713-4CD3-8ADE-F0DCB80F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7552D-BB05-4F00-BB79-85F5DB3D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9CD36-612C-466D-8478-48BC04FA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3DF17-3778-4965-8835-96192BC1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FA69D-C09E-4857-9AC5-2D03238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82D08-346B-48E2-861F-257D4B9B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D53B9-27CE-40D9-9075-C299B85E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D0553-7632-48AF-B52C-BEE03C4D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A23FE-40A8-49A5-80CA-CF636257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B5AA-CD03-4034-AE3B-AC4EC6065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575C-4BE8-42EE-867C-F26B51AF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FFEFA-E6A6-43A5-ADF8-787A544B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9047B-D4E7-43F7-A79A-CE2EC4FA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93096-2F48-4E75-B4E0-1D844113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C3750-D380-4A0B-88BD-A9BA0590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38787-15C0-4E04-95FE-48DB892E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B1D54-FFCD-4A2A-8A18-3BC55A1F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CDA2-CC8A-4502-A285-802BA42F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3FB32-EBB5-4B2E-8AE0-8647D4AB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4BC2D-CD59-4BEF-AE26-F3D607E1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4A53-6590-4FD5-A042-A60F7080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4E45-B9EF-46C0-8130-73B517FA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388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61240" y="199368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52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388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61240" y="3960360"/>
            <a:ext cx="25970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EDC7A-A358-408C-B510-C37E7E95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34E-7375-4002-B3C1-8FFFE023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396036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9E8-F17D-4080-A776-02DB624B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652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93680"/>
            <a:ext cx="393624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6520" y="3960360"/>
            <a:ext cx="8066160" cy="17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C39A-38BA-46E1-9687-1D13D6F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94110-7FB9-4424-8686-C9969A462112}" type="slidenum">
              <a:rPr b="0" lang="ru-RU" sz="90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3C7BB-7061-49D5-9167-653347BA85DD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7E9B8-8B07-4A2C-B176-A82A35EC1391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40120" y="582948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0616A-5009-46E3-AEE0-9BB5A6B2EF53}" type="slidenum">
              <a:rPr b="0" lang="ru-RU" sz="90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06520" y="1993680"/>
            <a:ext cx="8066160" cy="37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0360" indent="-903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1" marL="272880" indent="1036958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2" marL="547560" indent="-54756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3" marL="822240" indent="-82224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4" marL="1096920" indent="-1096920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5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  <a:p>
            <a:pPr lvl="6" marL="1096920" indent="-1096920">
              <a:lnSpc>
                <a:spcPct val="85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CB6F0-CCC0-4EA2-BD58-5351B6FCC3CA}" type="slidenum">
              <a:rPr b="0" lang="ru-RU" sz="90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826920" y="1268280"/>
            <a:ext cx="7632720" cy="4033800"/>
          </a:xfrm>
          <a:prstGeom prst="rect">
            <a:avLst/>
          </a:prstGeom>
          <a:gradFill rotWithShape="0">
            <a:gsLst>
              <a:gs pos="0">
                <a:srgbClr val="f6fbfc"/>
              </a:gs>
              <a:gs pos="100000">
                <a:srgbClr val="cbe8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360" indent="-90360" algn="ctr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ctr">
              <a:lnSpc>
                <a:spcPct val="85000"/>
              </a:lnSpc>
              <a:spcBef>
                <a:spcPts val="1301"/>
              </a:spcBef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ctr">
              <a:lnSpc>
                <a:spcPct val="150000"/>
              </a:lnSpc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тчет о научно-исследовательской деятельности РГГМ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 algn="ctr">
              <a:lnSpc>
                <a:spcPct val="150000"/>
              </a:lnSpc>
              <a:buClr>
                <a:srgbClr val="262626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 2017 год и задачи на 2018 г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ирования НИР государственного задания РГГМУ в  2017 году</a:t>
            </a:r>
            <a:br>
              <a:rPr sz="2000"/>
            </a:b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8000" y="836640"/>
          <a:ext cx="8748720" cy="5797440"/>
        </p:xfrm>
        <a:graphic>
          <a:graphicData uri="http://schemas.openxmlformats.org/drawingml/2006/table">
            <a:tbl>
              <a:tblPr/>
              <a:tblGrid>
                <a:gridCol w="3870360"/>
                <a:gridCol w="1204920"/>
                <a:gridCol w="1311120"/>
                <a:gridCol w="1328760"/>
                <a:gridCol w="1033560"/>
              </a:tblGrid>
              <a:tr h="433440"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про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 организации на 2017 год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даме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ивные научн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базовая ча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5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150,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проекты, выполняемые научными коллективами научных лабораторий на конкурсной осн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конкурсная часть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4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-технические сотрудники на постоянной основ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научно-исследовательских работ (НИР), в интересах Департаментов Минобрнауки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80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80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4 84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6  561,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92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8 28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95280" y="907920"/>
          <a:ext cx="8424720" cy="5818320"/>
        </p:xfrm>
        <a:graphic>
          <a:graphicData uri="http://schemas.openxmlformats.org/drawingml/2006/table">
            <a:tbl>
              <a:tblPr/>
              <a:tblGrid>
                <a:gridCol w="260280"/>
                <a:gridCol w="1468440"/>
                <a:gridCol w="4969080"/>
                <a:gridCol w="1726920"/>
              </a:tblGrid>
              <a:tr h="614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0b4c8"/>
                    </a:solidFill>
                  </a:tcPr>
                </a:tc>
              </a:tr>
              <a:tr h="3319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нициативные научные проекты (базовая часть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493.2017/Б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е изменчивости газового состава Арктики в условиях меняющегося клим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ышляев С. П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  <a:tr h="72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293.2017/Б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увствительность многолетнего речного стока и основных водозависимых отраслей экономики к изменениям клим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йдукова Е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 16.05.20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</a:tr>
              <a:tr h="79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010.2017/Б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лияния климатических и биологических факторов на эволюцию прибрежных экосистем Балтийского мо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емина Т. 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  <a:tr h="64764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учные проекты, выполняемые научными коллективами научных лабораторий на конкурсной основе (конкурс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928.2017/П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новых методов исследования экстремальных явлений в системе океан - атмосфера на основе синергетики спутниковых измерений и моде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дрявцев В.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  <a:tr h="4399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оведение научно-исследовательских работ в интересах Департаментов 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5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425.2017/Н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состояния и перспектив развития научных исследований в Арктической зоне Российской Федерации и Мировом океане, включая береговую зону окраинных морей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гоберидзе Г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2f5"/>
                    </a:solidFill>
                  </a:tcPr>
                </a:tc>
              </a:tr>
            </a:tbl>
          </a:graphicData>
        </a:graphic>
      </p:graphicFrame>
      <p:sp>
        <p:nvSpPr>
          <p:cNvPr id="232" name="Прямоугольник 2"/>
          <p:cNvSpPr/>
          <p:nvPr/>
        </p:nvSpPr>
        <p:spPr>
          <a:xfrm>
            <a:off x="468360" y="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исследовательские работы РГГ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задания Минобрнауки России в сфере научной деятельности на 201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ометрические показатели выполнения НИР государственного задания РГГМУ  в  20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br>
              <a:rPr sz="4300"/>
            </a:br>
            <a:endParaRPr b="0" lang="en-US" sz="20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9640" y="1268280"/>
          <a:ext cx="8353440" cy="5235840"/>
        </p:xfrm>
        <a:graphic>
          <a:graphicData uri="http://schemas.openxmlformats.org/drawingml/2006/table">
            <a:tbl>
              <a:tblPr/>
              <a:tblGrid>
                <a:gridCol w="4464000"/>
                <a:gridCol w="1873440"/>
                <a:gridCol w="2016000"/>
              </a:tblGrid>
              <a:tr h="575280">
                <a:tc rowSpan="2">
                  <a:txBody>
                    <a:bodyPr lIns="35280" rIns="35280" tIns="0" bIns="0" anchor="t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ение показа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явленные 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игнутый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убликаций в журналах, индексируемых в базе данных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b of Sc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убликаций в журналах, индексируемых в базе данных Scop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8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8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убликаций в журналах, индексируемых в базе данных «Сеть нау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защищенных диссертаций на соискание ученой степени кандидата на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35280" rIns="35280" tIns="0" bIns="0" anchor="ctr">
                      <a:noAutofit/>
                    </a:bodyPr>
                    <a:p>
                      <a:pPr marL="88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защищенных диссертаций на соискание ученой степени доктора нау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финансирования НИР государственного задания РГГМУ в  2018 году</a:t>
            </a:r>
            <a:br>
              <a:rPr sz="2000"/>
            </a:br>
            <a:r>
              <a:rPr b="0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на 26.02.2018 г.)</a:t>
            </a:r>
            <a:endParaRPr b="0" lang="en-US" sz="18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08000" y="1125360"/>
          <a:ext cx="8856720" cy="4753080"/>
        </p:xfrm>
        <a:graphic>
          <a:graphicData uri="http://schemas.openxmlformats.org/drawingml/2006/table">
            <a:tbl>
              <a:tblPr/>
              <a:tblGrid>
                <a:gridCol w="3978360"/>
                <a:gridCol w="1204920"/>
                <a:gridCol w="1311120"/>
                <a:gridCol w="1328760"/>
                <a:gridCol w="1033560"/>
              </a:tblGrid>
              <a:tr h="648000"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-во про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овый объем финансирования НИР гос. задания РГГМУ на 2018 год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дамен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ла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ивные научн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18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18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ые проекты, выполняемые научными коллективами научных лабораторий на конкурсной осно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учно-технические сотрудники на постоянной основ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6,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720"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85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 29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 818,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marL="92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 47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39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одные сведения о выполнПроблемыяемых НИР в </a:t>
            </a:r>
            <a:r>
              <a:rPr b="1" lang="ru-RU" sz="1800" spc="-1" strike="noStrike">
                <a:solidFill>
                  <a:srgbClr val="ff0000"/>
                </a:solidFill>
                <a:latin typeface="Bookman Old Style"/>
              </a:rPr>
              <a:t>2018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году,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по состоянию на 26.02.2012</a:t>
            </a:r>
            <a:endParaRPr b="0" lang="en-US" sz="14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95280" y="1125360"/>
          <a:ext cx="8280360" cy="5266080"/>
        </p:xfrm>
        <a:graphic>
          <a:graphicData uri="http://schemas.openxmlformats.org/drawingml/2006/table">
            <a:tbl>
              <a:tblPr/>
              <a:tblGrid>
                <a:gridCol w="503280"/>
                <a:gridCol w="4691160"/>
                <a:gridCol w="1204920"/>
                <a:gridCol w="1881000"/>
              </a:tblGrid>
              <a:tr h="3661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ства министерств и ведомст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9 3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79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68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ФЦП « Исследования и разработки по приоритетным направлениям развития научно-технологического комплекса России на 201402020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268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НИР государственного задания РГГ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 29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природы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51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редства фондов поддержки нау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2 2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00,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Н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озяйствующих субъек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 4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того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7 99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0" y="187200"/>
          <a:ext cx="9036000" cy="6670800"/>
        </p:xfrm>
        <a:graphic>
          <a:graphicData uri="http://schemas.openxmlformats.org/drawingml/2006/table">
            <a:tbl>
              <a:tblPr/>
              <a:tblGrid>
                <a:gridCol w="287280"/>
                <a:gridCol w="8748720"/>
              </a:tblGrid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направления научных исследований в 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ГГ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экономические, экологические, геополитические проблемы развития Арктической зоны Российской Федерации и защита национальных интересов в Арктик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рационального использования водных биоресурсов и аквакультур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ы сохранения и развития культурного наследия коренных и малочисленных народов Севера, Сибири и Дальнего Востока, особенности межкультурных и межъязыковых контактов и связей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39240" cy="40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водные сведения о выполнении НИР в 2015 – 2016 </a:t>
            </a:r>
            <a:r>
              <a:rPr b="1" lang="ru-RU" sz="1800" spc="-1" strike="noStrike">
                <a:solidFill>
                  <a:srgbClr val="00b050"/>
                </a:solidFill>
                <a:latin typeface="Bookman Old Style"/>
              </a:rPr>
              <a:t>– 2017 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годах</a:t>
            </a:r>
            <a:endParaRPr b="0" lang="en-US" sz="18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0" y="404640"/>
          <a:ext cx="9001080" cy="6361200"/>
        </p:xfrm>
        <a:graphic>
          <a:graphicData uri="http://schemas.openxmlformats.org/drawingml/2006/table">
            <a:tbl>
              <a:tblPr/>
              <a:tblGrid>
                <a:gridCol w="504720"/>
                <a:gridCol w="2266920"/>
                <a:gridCol w="863640"/>
                <a:gridCol w="1224000"/>
                <a:gridCol w="792360"/>
                <a:gridCol w="1225440"/>
                <a:gridCol w="900000"/>
                <a:gridCol w="122400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5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6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7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НИ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ыс. руб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министерств и др. ведом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7 24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 1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cc33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4 82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7 24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 18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33cc33"/>
                          </a:solidFill>
                          <a:latin typeface="Bookman Old Style"/>
                        </a:rPr>
                        <a:t>3564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природы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918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фондов поддержки науч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71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 67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45 4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670,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6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4 4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Н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04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 01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41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бюджета Субъекта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38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87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озяйствующих субъ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89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2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небюджетные Российсие источ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170,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 09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рубежные источ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 09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7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2f33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2f33"/>
                          </a:solidFill>
                          <a:latin typeface="Times New Roman"/>
                          <a:ea typeface="Times New Roman"/>
                        </a:rPr>
                        <a:t>109 50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 03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2 5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Участие научных коллективов и исследователей РГГМУ в Конкурсах на выполнение НИР в 2017 году</a:t>
            </a:r>
            <a:endParaRPr b="0" lang="en-US" sz="16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08000" y="907920"/>
          <a:ext cx="8893080" cy="5905800"/>
        </p:xfrm>
        <a:graphic>
          <a:graphicData uri="http://schemas.openxmlformats.org/drawingml/2006/table">
            <a:tbl>
              <a:tblPr/>
              <a:tblGrid>
                <a:gridCol w="6985080"/>
                <a:gridCol w="893520"/>
                <a:gridCol w="1014480"/>
              </a:tblGrid>
              <a:tr h="5634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тор конкур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ано заяв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игран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инистерства  и ведом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обрауки Рос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ы  на выполнение НИР в рамках государственного задания (конкурс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обрауки Рос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ЦП "«Исследования и разработки по приоритетным направлениям развития научно-технологического комплекса России на 2014—2020 год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ерство культуры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Фонды поддержки научной 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52560" rIns="52560" tIns="0" bIns="0" anchor="ctr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фонд фундаментальных исследований (РФФИ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52560" rIns="525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научный фонд (РНФ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9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Средства бюджета Субъектов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ое агенство природопользования и охраны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нистерство экологии и природопользования Москов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52560" rIns="525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Хозяйствующие субъ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ГБУ Центр развития ВХК (хоз/д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52560" rIns="52560" tIns="0" bIns="0" anchor="t">
                      <a:noAutofit/>
                    </a:bodyPr>
                    <a:p>
                      <a:pPr marL="179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нинградское областное государственное учреждение "Региональное агентство природопользования и охраны окружающей среды" (Агенство Природопользования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560" rIns="52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560" marR="52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Результативность научных исследований в</a:t>
            </a:r>
            <a:r>
              <a:rPr b="1" lang="ru-RU" sz="2200" spc="-1" strike="noStrike">
                <a:solidFill>
                  <a:srgbClr val="000000"/>
                </a:solidFill>
                <a:latin typeface="Bookman Old Style"/>
              </a:rPr>
              <a:t> 2017 году</a:t>
            </a:r>
            <a:endParaRPr b="0" lang="en-US" sz="22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50920" y="333360"/>
          <a:ext cx="8640720" cy="6394320"/>
        </p:xfrm>
        <a:graphic>
          <a:graphicData uri="http://schemas.openxmlformats.org/drawingml/2006/table">
            <a:tbl>
              <a:tblPr/>
              <a:tblGrid>
                <a:gridCol w="5472000"/>
                <a:gridCol w="1152720"/>
                <a:gridCol w="936360"/>
                <a:gridCol w="107964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162f33"/>
                          </a:solidFill>
                          <a:latin typeface="Bookman Old Style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учные публикации, всег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 индексируемых:                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6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наукометрической баз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Web of S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наукометрической баз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cop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изданиях, включенных  в РИН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российских научных журналах, включенных в                    перечень В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нференции, в которых участвовали работники вуза, 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з них международн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созданных РИД всего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Заявок на объекты промышленной собствен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cc66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атентов России на изобре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атентов России на полезны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Свидетельств о государственной регистрации программ для ЭВМ, баз данных, выданные Роспатен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тавки, в которых участвовали работники вуза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том числе междунар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189000"/>
          <a:ext cx="8929800" cy="6396120"/>
        </p:xfrm>
        <a:graphic>
          <a:graphicData uri="http://schemas.openxmlformats.org/drawingml/2006/table">
            <a:tbl>
              <a:tblPr/>
              <a:tblGrid>
                <a:gridCol w="71280"/>
                <a:gridCol w="3346560"/>
                <a:gridCol w="719280"/>
                <a:gridCol w="706320"/>
                <a:gridCol w="716040"/>
                <a:gridCol w="533520"/>
                <a:gridCol w="564840"/>
                <a:gridCol w="505080"/>
                <a:gridCol w="463320"/>
                <a:gridCol w="536760"/>
                <a:gridCol w="766800"/>
              </a:tblGrid>
              <a:tr h="769680">
                <a:tc gridSpan="11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дения о публикациях работников структурных подразделений РГГМУ в 2017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по данным кафед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0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5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рнал входит в переч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6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ное подраз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учных публик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йское изд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рубежное изд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рн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борни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Н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op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b of Sci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еор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4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др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3222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кеан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логический 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7254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ультет гидрометеорологического обеспечения экономико-управленческой деятельности в отраслях и комплекс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итут «Полярная акаде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9b3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ститут информационных систем и гео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fc6ff"/>
                    </a:solidFill>
                  </a:tcPr>
                </a:tc>
              </a:tr>
              <a:tr h="346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55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боратория спутниковой океанографии (ЛС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ffbd"/>
                    </a:solidFill>
                  </a:tcPr>
                </a:tc>
              </a:tr>
              <a:tr h="409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лиал РГГМУ в г. Туапс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d889"/>
                    </a:solidFill>
                  </a:tcPr>
                </a:tc>
              </a:tr>
              <a:tr h="3448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cd6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монографиях и учебниках, изданных сотрудниками РГГМУ в 2017 году</a:t>
            </a:r>
            <a:br>
              <a:rPr sz="4300"/>
            </a:br>
            <a:endParaRPr b="0" lang="en-US" sz="16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549360"/>
          <a:ext cx="9036000" cy="6186240"/>
        </p:xfrm>
        <a:graphic>
          <a:graphicData uri="http://schemas.openxmlformats.org/drawingml/2006/table">
            <a:tbl>
              <a:tblPr/>
              <a:tblGrid>
                <a:gridCol w="452520"/>
                <a:gridCol w="2622600"/>
                <a:gridCol w="1065240"/>
                <a:gridCol w="922320"/>
                <a:gridCol w="1112760"/>
                <a:gridCol w="1192320"/>
                <a:gridCol w="890280"/>
                <a:gridCol w="777960"/>
              </a:tblGrid>
              <a:tr h="487440">
                <a:tc rowSpan="2">
                  <a:txBody>
                    <a:bodyPr lIns="53640" rIns="53640" tIns="0" bIns="0" anchor="ctr">
                      <a:noAutofit/>
                    </a:bodyPr>
                    <a:p>
                      <a:pPr marL="92160" indent="-4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3640" rIns="53640" tIns="0" bIns="0" anchor="ctr">
                      <a:noAutofit/>
                    </a:bodyPr>
                    <a:p>
                      <a:pPr marL="281160" indent="-281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труктурное подразд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монограф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Учеб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509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(учебные пособ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личество монограф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(раздел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Российское изд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Зарубеж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изд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личество учеб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(уч. пособ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Гриф УМ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Иные гриф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 marL="9216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92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ео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 marL="92160" indent="-46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еан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ет гидрометеорологического обеспечения экономико-управленческой деятельности в отраслях и комплекс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«Полярная академ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боратория спутниковой океанографии (ЛС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лиал РГГМУ в г. Туап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53640" rIns="53640" tIns="0" bIns="0" anchor="t">
                      <a:noAutofit/>
                    </a:bodyPr>
                    <a:p>
                      <a:pPr marL="250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 РГГ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отрудников РГГМУ в научных конференциях в 2017 году</a:t>
            </a:r>
            <a:br>
              <a:rPr sz="2200"/>
            </a:br>
            <a:endParaRPr b="0" lang="en-US" sz="22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0" y="981000"/>
          <a:ext cx="8964720" cy="5834160"/>
        </p:xfrm>
        <a:graphic>
          <a:graphicData uri="http://schemas.openxmlformats.org/drawingml/2006/table">
            <a:tbl>
              <a:tblPr/>
              <a:tblGrid>
                <a:gridCol w="441360"/>
                <a:gridCol w="2571840"/>
                <a:gridCol w="1249200"/>
                <a:gridCol w="1363680"/>
                <a:gridCol w="1281240"/>
                <a:gridCol w="1174680"/>
                <a:gridCol w="882720"/>
              </a:tblGrid>
              <a:tr h="3240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marL="250920" indent="-493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Структурное подраздел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нфер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ол-во докла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Участие в конферен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Международ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Всероссий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Региона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ео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14400" indent="-144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еан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ологический 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культет гидрометеорологического обеспечения экономико-управленческой деятельности в отраслях и комплекс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«Полярная академ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титут 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ctr">
                      <a:noAutofit/>
                    </a:bodyPr>
                    <a:p>
                      <a:pPr marL="14400" indent="-144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аборатория спутниковой океанографии (ЛС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55440" rIns="55440" tIns="0" bIns="0" anchor="ctr">
                      <a:noAutofit/>
                    </a:bodyPr>
                    <a:p>
                      <a:pPr marL="92160" indent="-223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indent="-493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лиал РГГМУ в г. Туапс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 marL="25092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 РГГ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marL="2509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студентов РГГМУ в Конкурсах  на выполнение НИР в 2017 году</a:t>
            </a:r>
            <a:endParaRPr b="0" lang="en-US" sz="2400" spc="-1" strike="noStrike">
              <a:solidFill>
                <a:srgbClr val="50b4c8"/>
              </a:solidFill>
              <a:latin typeface="Calibri Light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68360" y="1197000"/>
          <a:ext cx="7991280" cy="4968720"/>
        </p:xfrm>
        <a:graphic>
          <a:graphicData uri="http://schemas.openxmlformats.org/drawingml/2006/table">
            <a:tbl>
              <a:tblPr/>
              <a:tblGrid>
                <a:gridCol w="4351320"/>
                <a:gridCol w="2012760"/>
                <a:gridCol w="1627200"/>
              </a:tblGrid>
              <a:tr h="97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тор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ано зая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играно зая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грантов для студентов и аспирантов на выполнение НИ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тор  КНВШ Правительства СП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арктический научно-образовательный консорциум ( "НАНОК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на участие в Форуме Наука будущего – Наука молод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Никита Станиславович Родин</cp:lastModifiedBy>
  <dcterms:modified xsi:type="dcterms:W3CDTF">2018-05-22T12:10:06Z</dcterms:modified>
  <cp:revision>1056</cp:revision>
  <dc:subject/>
  <dc:title>Итоговая сессия Ученого совета РГГМУ</dc:title>
</cp:coreProperties>
</file>